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7A1B-AC1A-4F6F-95C4-3549351693C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34D6-E513-43C0-967C-DCB9DA65573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2B05-123D-4D87-87CE-72D9DC076E2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9D17-E86B-4652-99E1-CD781938FE4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776B-1108-4953-AEF1-DAC9C0F432E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324C-28F5-4BB9-BD40-784F2A9C7C4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7798-4DEE-409B-9084-04A4129733F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2BFC-547E-45EE-893A-10EAAB21D07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165B-6EB4-449E-9DF6-C176683B36B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11D7-3462-48A0-84E5-D3CD358C19F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D866-229C-44E9-8CF6-8BFDD8983C1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4C36-6488-4DE7-8709-C8F32CEC792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F313-1DDE-4E78-A94E-EBADAD3B7EE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B06C-01B1-4239-85A2-B03ECA457C9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4EC1-3596-4035-926B-DE74AFB00EF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E130-9EA2-4735-9A3F-627F3293421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D267-91CE-4DFB-931A-CCF42DCDC8A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0C49-B01C-4A49-BD89-ADA77763958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4D7A-2632-4B9A-97AA-4C57F71F52C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ECC0-B1F7-402E-BCD1-73968F034A2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68FD-B462-4D01-8679-A3297DD7CDC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5CA2-ECCB-456A-A786-09B543B4849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38A0-D709-4951-87BF-A70CC3045E9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4E80-5E8D-4B06-9861-3A33DF8199E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07AA-B553-4D75-8BE2-D42336852D8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73AE-AB86-44FE-847F-B574D0C95F9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D878-738E-4E79-9D65-E119206D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A52-B95F-405D-81FA-1BFB2BAB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FF25-C0DF-4C2D-9E6D-BF4ECF2B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2AF6-597E-43BC-844C-F5D906D9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7E75-BF15-4AD0-86B8-85D2ECD7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E07C-4247-402A-9A83-E37FAE6E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86F5-43A2-4D66-AF2C-CD4A0A0E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F209-747C-48C4-BA38-CC315E3A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6AE8-05A9-4CB6-9A19-9D2A15F7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DF69-63F8-4D7F-929C-2A74E760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3C43-4751-43DC-9081-9D3A194C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AE54-F79A-4BC0-9509-055887E7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422B-7700-49BE-9164-9BAD1E41C19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ΛΕΥΚΑ ΑΙΜΟΣΦΑΙΡ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ΜΟΝΟΠΥΡΗΝ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68000" y="1267920"/>
            <a:ext cx="83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το 2-5% των λευκοκυττάρ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ορφολογία πυρήν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Μονήρης, χωρίς λοβ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υτταρόπλασμ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Δεν φέρει έντονη κοκκίωσ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Έχουν τη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εγαλύτερη φαγοκυτταρική ικανότητ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ακροφάγα των ιστών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μεταναστευτικά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ποτελούν το κύριο τμήμα του Δ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ΔΙΚΤΥΟΕΝΔΟΘΗΛΙΑΚΟ ΣΥΣΤΗ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Είναι ένα φαγοκυτταρικό σύστημα που στηρίζεται στα </a:t>
            </a:r>
            <a:r>
              <a:rPr b="1" lang="el-GR" sz="2600" spc="-1" strike="noStrike" u="sng">
                <a:solidFill>
                  <a:srgbClr val="ff0000"/>
                </a:solidFill>
                <a:uFillTx/>
                <a:latin typeface="Arial"/>
              </a:rPr>
              <a:t>μακροφάγα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 των ιστών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Κινούνται ελεύθερα διαμέσου του συνδετικού ιστού και συνήθως είναι καθηλωμένα σε ορισμένες περιοχέ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ε λοιμώξεις ενεργοποιούνται και μεταναστεύου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Υπάρχουν πολλά στους λεμφαδένες, το σπλήνα και το μυελό των οστώ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ΤΟ ΠΕΡΙΛΑΜΒΑΝΕΙ ΤΟ ΔΙΚΤΥΟΕΝΔΟΘΗΛΙΑΚΟ ΣΥΣΤΗ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6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μακροφάγα των ιστ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Τα κυψελιδικά μακροφάγα των πνευμόν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Τα κύτταρα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Kupffer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το ήπα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Τα κύτταρα της νευρογλοίας στο νευρικό σύστημ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ΑΡΑΓΩΓΗ ΛΕΥΚΟΚΥΤΤΑΡ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24000" y="148392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Αρχέγονα πολυδύναμα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(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002060"/>
                </a:solidFill>
                <a:uFillTx/>
                <a:latin typeface="Arial"/>
              </a:rPr>
              <a:t>Λεμφική σειρά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1" lang="el-GR" sz="3200" spc="-1" strike="noStrike" u="sng">
                <a:solidFill>
                  <a:srgbClr val="002060"/>
                </a:solidFill>
                <a:uFillTx/>
                <a:latin typeface="Arial"/>
              </a:rPr>
              <a:t>Μυελική σειρ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Β - λεμφοκύτταρα          Όλες οι άλλε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Τ - λεμφοκύτταρα            ομάδε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2700360" y="213372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6154560" y="213372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ΑΡΑΓΩΓΗ ΛΕΥΚΟΚΥΤΤΑΡ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9" name="Picture 4" descr="6"/>
          <p:cNvPicPr/>
          <p:nvPr/>
        </p:nvPicPr>
        <p:blipFill>
          <a:blip r:embed="rId1"/>
          <a:stretch/>
        </p:blipFill>
        <p:spPr>
          <a:xfrm>
            <a:off x="1476360" y="830160"/>
            <a:ext cx="662472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ΦΑΓΟΚΥΤΤΑΡΩΣ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"/>
          <p:cNvPicPr/>
          <p:nvPr/>
        </p:nvPicPr>
        <p:blipFill>
          <a:blip r:embed="rId1"/>
          <a:stretch/>
        </p:blipFill>
        <p:spPr>
          <a:xfrm>
            <a:off x="324000" y="1239840"/>
            <a:ext cx="828036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ΞΕΤΑΣΕΙΣ ΛΕΥΚΩΝ ΑΙΜΟΣΦΑΙΡ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1. Αριθμός λευκών αιμοσφαιρίων (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WB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2.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Λευκοκυτταρικός τύπ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ΡΙΘΜΟΣ ΛΕΥΚΩΝ (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WB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0560" y="1268280"/>
            <a:ext cx="878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Φυσιολογικές Τιμές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Ενήλικες/Παιδιά &gt; 2 ετών : 5.000-10.000 /mm³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Παιδιά ≤ 2 ετών : 6.200-17.000 /mm³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Νεογνά : 9.000-30.000 /mm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ρμηνεία Εξέτασης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Τα επίπεδα των λευκών αιμοσφαιρίων </a:t>
            </a:r>
            <a:r>
              <a:rPr b="0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αυξάνονται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σε περίπτωση λοίμωξης, τραύματος, στρες, νέκρωσης ιστού και σε περίπτωση νοσημάτων του αίματο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Τα επίπεδα των λευκών αιμοσφαιρίων </a:t>
            </a:r>
            <a:r>
              <a:rPr b="0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ειώνονται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σε πολλές μορφές ανεπάρκειας του μυελού των οστών, σε πολύ σοβαρές λοιμώξεις, σε διαιτητικές ελλείψεις, κατά τη λήψη τοξικών φαρμάκων καθώς και σε αυτοάνοσα νοσήματ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ΛΕΥΚΟΚΥΤΤΑΡΙΚΟΣ ΤΥΠ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560" y="1413000"/>
            <a:ext cx="8713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ρισμό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Είναι η ποσοστιαία (%) κατανομή των λευκοκυττάρων στους διάφορους τύπους λευκών αιμοσφαιρί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Φυσιολογικές Τιμές</a:t>
            </a:r>
            <a:br>
              <a:rPr sz="2400"/>
            </a:b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    Ουδετερόφιλα : 55-70 %</a:t>
            </a:r>
            <a:br>
              <a:rPr sz="2400"/>
            </a:b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    Λεμφοκύτταρα : 20-40 %</a:t>
            </a:r>
            <a:br>
              <a:rPr sz="2400"/>
            </a:b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    Μονοκύτταρα : 2-8 %</a:t>
            </a:r>
            <a:br>
              <a:rPr sz="2400"/>
            </a:b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    Ηωσινόφιλα : 1-4 %</a:t>
            </a:r>
            <a:br>
              <a:rPr sz="2400"/>
            </a:b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    Βασεόφιλα : 0.5-1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36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ΕΡΜΗΝΕΙΑ ΛΕΥΚΟΚΥΤΤΑΡΙΚΟΥ ΤΥΠΟ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560" y="907560"/>
            <a:ext cx="8713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Ουδετερόφιλα: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Αυξάνουν σε οξείες λοιμώξεις και τραύματα. Τα ουδετερόφιλα μειώνονται κατά τη λήψη ορισμένων φαρμάκων, σε αυτοάνοσα νοσήματα και σε διαταραχές της λειτουργίας του ανοσοποιητικού ή του μυελού των οστών.</a:t>
            </a:r>
            <a:br>
              <a:rPr sz="2400"/>
            </a:b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Λεμφοκύτταρα: </a:t>
            </a: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Αυξημένα επίπεδα λεμφοκυττάρων παρατηρούνται σε περιπτώσεις ιογενών λοιμώξεων ή σε νοσήματα του αίματος. Μειώνονται σε διαταραχές της λειτουργίας του ανοσοποιητικού, κατά τη λήψη ανοσοκατασταλτικών φαρμάκων και σε χημειοθεραπείες.</a:t>
            </a:r>
            <a:br>
              <a:rPr sz="2400"/>
            </a:b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Μονοκύτταρα: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Αυξάνονται σε λοιμώξεις, σε νοσήματα του αίματος καθώς και σε χρόνιες φλεγμονές.</a:t>
            </a:r>
            <a:br>
              <a:rPr sz="2400"/>
            </a:b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Ηωσινόφιλα: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Αυξάνονται σε αλλεργίες, παρασιτώσεις, διάφορες δερματοπάθειες, σε νοσήματα του αίματος και σε αυτοάνοσα νοσήματα.</a:t>
            </a:r>
            <a:br>
              <a:rPr sz="2400"/>
            </a:b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Βασεόφιλα: </a:t>
            </a: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Αυξάνονται σε αλλεργικές αντιδράσε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ΛΕΥΚΑ ΑΙΜΟΣΦΑΙΡ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ΡΟΛΟ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Απομάκρυνση κατεστραμμένων ιστ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προστασία από τις λοιμώξεις και τα καρκινικά κύτταρα (ανοσολογική αντίδρασ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ΙΜΟΠΕΤΑΛ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8496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θραύσματα κυττάρων του αίματος που περιέχουν οργανίδια και ένζυμα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,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αλλά όχι πυρηνικό υλικό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ριθμός: 150-300 χιλ./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mm3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ΑΡΑΓΩΓΗ ΑΙΜΟΠΕΤΑΛ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8496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Προέρχονται από τα μεγαλοκύτταρα, που είναι γιγαντιαία πολυμορφοπύρηνα, που προέρχονται από τα αρχέγον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424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ΙΜΟΠΕΤΑΛΙΑ: ΡΟΛ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871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Βοηθούν στην πρόληψη ή στη διακοπή της αιμορραγίας, με τη διαδικασία της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αιμόσταση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απαραίτητα για την επούλωση τραυμάτων και τον σχηματισμό θρόμβων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ΞΕΤΑΣΕΙΣ ΑΙΜΟΠΕΛΑΤ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1. Αριθμός αιμοπεταλίων (PL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2. Μέσος Όγκος Αιμοπεταλίων (ΜPV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ΡΙΘΜΟΣ ΑΙΜΟΠΕΤΑΛ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907560"/>
            <a:ext cx="8856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Φυσιολογικές Τιμές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Ενήλικες : 150.000-450.000 /mm³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Πρόωρα βρέφη : 100.000-300.000 /mm³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Νεογνά : 150.000-300.000 /mm³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Βρέφη : 200.000-475.000 /mm³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Παιδιά : 150.000-400.000 /mm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ρμηνεία Εξέτασης</a:t>
            </a:r>
            <a:br>
              <a:rPr sz="2600"/>
            </a:br>
            <a:r>
              <a:rPr b="0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Τα μειωμένα επίπεδα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αιμοπεταλίων (θρομβοκυτοπενία) μπορεί να οφείλονται σε μειωμένη παραγωγή ή σε αυξημένη καταστροφή τους εξαιτίας πολλών νοσημάτων. Η επίπονη άσκηση και η διαβίωση σε μεγάλο υψόμετρο μπορούν </a:t>
            </a:r>
            <a:r>
              <a:rPr b="0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να αυξήσουν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τα επίπεδα των αιμοπεταλίων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Η λήψη ορισμένων φαρμάκων μπορεί να οδηγήσει σε    αύξηση ή σε μείωση των αιμοπεταλίω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89280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ΜΕΣΟΣ ΟΓΚΟΣ ΑΙΜΠΕΤΑΛΙΩΝ (ΜPV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Φυσιολογικές Τιμές :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7,5-11,5 μm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ρμηνεία Εξέτασης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Ο MPV αποτελεί σημαντικό δείκτη του όγκου των αιμοπεταλίων και δείκτη αξιολόγησης των αιματολογικών και αιμορραγικών διαταραχώ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ΡΙΘΜΟΣ ΛΕΥΚΩΝ ΑΙΜΟΣΦΑΙΡ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ΑΡΙΘΜΟ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Φυσιολογικά: 4.000-10.000 /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 mm</a:t>
            </a:r>
            <a:r>
              <a:rPr b="1" lang="el-GR" sz="2800" spc="-1" strike="noStrike" baseline="30000">
                <a:solidFill>
                  <a:srgbClr val="00206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Σε λοιμώξεις ή φλεγομονές: Σημαντική αύξησ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ΤΥΠΟΙ ΛΕΥΚΩΝ ΑΙΜΟΣΦΑΙΡ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Με βάση την ιστολογική εμφάνι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Πολυμορφοπύρηνα κοκκιοκύτταρ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- Ουδετερόφιλ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- Ηωσινόφιλ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- Βασεόφιλ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2. Μονοπύρηνα ακοκκιοκύτταρ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- Λεμφοκύτταρ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- Μονοπύρην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ΤΥΠΟΙ ΛΕΥΚΩΝ ΑΙΜΟΣΦΑΙΡ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70400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ΟΥΔΕΤΕΡΟΦΙΛ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49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το 60-70% των λευκοκυττάρ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ορφολογία πυρήν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Πολύμορφος, λοβώδ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υτταρόπλασμ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Φέρει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οκκία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λυσοσώματα), τα οποία περιέχουν ένζυμ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Έχουν μεγάλη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ινητικότητ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Καταστρέφουν μικροοργανισμούς με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φαγοκύττωσ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γκυστώνουν θραύσματα ή ολόκληρους ξένους μικροοργανισμ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γκλωβίζουν το στόχο σε κοκκία (φαγοσώματα) που συγχωνεύονται με τα λυσοσώματα, με τα ένζυμα των οποίων πέπτουν τις οργανικές ύλ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ΗΩΣΙΝΟΦΙΛ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το 1-4% των λευκοκυττάρ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ορφολογία πυρήν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Πολύμορφος, λοβώδ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υτταρόπλασμ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Φέρει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οκκία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λυσοσώματα), τα οποία περιέχουν ένζυμ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Καταστέφουν μικροοργανισμούς με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φαγοκύττωσ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Καταστροφή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παρασίτ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Αλλεργικέ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αντιδρά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ΒΑΣΕΟΦΙΛ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το 0,5% των λευκοκυττάρ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ορφολογία πυρήν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Πολύμορφος, λοβώδ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υτταρόπλασμ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Φέρει κοκκία, τα οποία περιέχουν ισταμίνη, ηπαρίνη και ένζυμ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Έχουν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φαγοκυτταρική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ικανότητ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πελευθερώνουν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ισταμίνη και ηπαρίν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υμμετέχουν στις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αλλεργικέ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αντιδρά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ΛΕΜΦΟΚΥΤΤΑΡ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68000" y="1267920"/>
            <a:ext cx="83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το 25-30% των λευκοκυττάρ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ff0000"/>
                </a:solidFill>
                <a:uFillTx/>
                <a:latin typeface="Arial"/>
              </a:rPr>
              <a:t>Δεν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είναι φαγοκύτταρ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Έχουν κύριο ρόλο στις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ανοσολογικέ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απαντήσει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Διακρίνονται σε Β και Τ λεμφοκύτταρ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6:00:50Z</dcterms:created>
  <dc:creator>a</dc:creator>
  <dc:description/>
  <dc:language>en-US</dc:language>
  <cp:lastModifiedBy>Χρήστος</cp:lastModifiedBy>
  <dcterms:modified xsi:type="dcterms:W3CDTF">2015-03-12T08:30:43Z</dcterms:modified>
  <cp:revision>57</cp:revision>
  <dc:subject/>
  <dc:title>ΗΛΕΚΤΡΙΚΑ ΣΗΜΑΤΑ ΚΑΙ ΔΙΕΓΕΡΣΙΜΑ ΚΥΤΤΑΡΑ</dc:title>
</cp:coreProperties>
</file>